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CF4-086C-494D-ADE6-38788448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9EE-6CFA-4F7C-95E1-59065F4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A2A-7FAC-4D02-971F-B5CF6762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9C4-EBC5-4DD8-AB84-0DE949DE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4573-AA51-4421-8D51-9E7AB0E8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A3A9-DC35-4E0C-A492-B35843E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2E62-4342-479C-929C-E438B9E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5C9-C3FF-4782-BFD0-DC58ECBA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653-BC14-459B-AF3A-3C8E9130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ED25-6215-4F35-99CA-A8998695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72E-6AA2-434E-969E-867A83E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8C0-5C90-42AB-A413-676DFF21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550B-014B-4CC6-B6C3-F1F1F35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16A2-E241-4A88-A743-CA07D4A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7CC-592E-4928-A04E-9BA271E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87FB-B464-4702-A3BC-FC23D6C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C66-78B9-42CD-89B3-4F7562B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4D4-BD49-4DA4-8F96-7980AFE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9CC-9E6B-4CA5-9591-121182B7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B76-D948-43CD-B560-C58F8F62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D46-C3BA-455B-A28A-C86E592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702-40A1-4111-A3B9-BA3442D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76A-15F8-402A-BF4B-CA297FE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31C-09C3-4F22-9838-7D688BE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2F3-4F09-4DE9-BDAE-994CD7671676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90C6-48E1-4D99-9B0E-60A58340A07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CCD-06A9-4EAD-8A04-BD9FBCCE4642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267F-4051-4D92-861D-BBC0FDB7D5D3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Arial"/>
              </a:rPr>
              <a:t>Tiedon kuvaaminen Opasnet-wikiss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Virpi Kolla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HL / Y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oimen arvioinnin ja Opasnetin käyttökoulutus -semina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15.2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kysymy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hin kysymykseen arviointi pyrkii vast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ka rajaus (ajallinen, maantieteellinen jn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lut skenaa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nelle? Kuka osallist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→ kuinka kysymykseen vastata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tavat päätösvaihtoeh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iointiin olennaisesti liittyvät muuttu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"/>
              </a:rPr>
              <a:t>→ vastaus arvioinnin kysymyk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ulo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roo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ustutkimu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en te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ulosten vaikutus ymmärrykseen todellisuud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äätöksentekijä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fisten tietotarpeiden määrit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hin kysymyksiin tarvitaan vastauksia, jotta voidaan tehdä parempia päätöksi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eltava tutk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aaminen esitettyihin kysymyksiin olemassa olevan tiedon pohj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kuvaamisen periaate Opasnet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etyt tietorakent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, muuttuja,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tötarko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ännön 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HL:n ylläpitämä wiki-pohjainen verkkosivu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ivuston tarkoit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rätä, koostaa ja viestiä yhteiskunnan arvoja ja tieteellistä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)   Edistää arvoihin ja tieteelliseen tietoon pohjautuvaa yhteiskunnallista päätöksentek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iedon kuvaus ja varas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yötila tiedon hyödyntämiseen (arviointien te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a käsitellään avoimen arvioinnin periaatteiden mukais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edon tehokas ja tarkoituksenmukainen jäsentämin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aaminen käyttötarkoituksen vaatimalla tav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sin systemaattis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hteiskunnan arvojen ja tieteellisen tiedon kuva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arviointien tekemisess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ttävä yksiselitteisy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ppuvuussuhteiden kuvaa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viointien kuvau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päätöksenteo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avat päätöksenteon kannalta relevantteihin kysymyk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vioinnin sisällön jäljitettävyys ja laadunvarmi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a kuvataan pienissä palo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tandardirak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den tietokokonaisuuden kuvaus  = yksi sivu Opasnet-wik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asiallisesti kuvaamisessa käytetään kolmea erilaista tietoraken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tkimus (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uttuja (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rakenteet ovat toisiinsa nähden hierark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Edistä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lemassa olevan tiedon hyödyntämistä uuden tiedon tuottamis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Hajanainen tieto ohjautuu osaksi suurempia kokonaisuuk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erustutkimus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(Tutkim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odellisuuden ymmärtäminen (Muutt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östen vaikutus todellisuuteen (Arvioi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Tutkimus (Study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yhden tieteellisen tutkimuksen kuvaami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julkituo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saatavuus ja tehokas hyödy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pinäkyvyys: tehokkaan vertaisarvioinnin mahdollis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kimuksen tav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äytetyt mene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(tuotettu aineisto, analyysit aineisto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rattavissa perinteiseen tieteelliseen julkaisu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stää tulosten hyödyntä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tuodaan suoraan niitä hyödyntävään järjestel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jäsentyvät tehokkaammin osaksi laajempaa tietokokonaisuu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Muuttuja (Variable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kuvata tarkasti jokin rajattu pala todellisu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jokin ympäristössä havaittava ilmiö tai yhteiskunnassa havaittava arvopäätelm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lkinta todellisuudesta saatavilla olevan tiedon val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daan usein kyseistä kuvausta vaativan arvioinn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uitenkaan sidonnainen mihinkään yksittäiseen arvioin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lta luonteeltaan jatk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vaus kehittyy tiedon kerty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rkimys täydellisen todenmukaiseen kuvauk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äytännössä useimmiten ainoastaan lähestyy täydellisyyttä, koska tieto on aina puutteel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ksittäisiä tutkimuksia hyödynnetään muuttujien kuvaamis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uttuja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ä ilmiötä muuttuja pyrkii kuv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mman tarkka ja yksiselitteinen ra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lmiöstä saatavilla oleva 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ippuvuussuhteet muihin ilmiöi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tausaine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Kuinka kuvaus on johdettu saatavilla olevan tiedon pohj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rsinainen kuv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ämän hetken p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as ymmärrys ilmiön todellisesta luonte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vantitatiivinen / kvalitatiivinen määrit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yrkimys aina mahdollisimman tarkkaan, kvantitatiiviseen kuvauk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Arviointi (Assessment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pyrkii vastaamaan johonkin tiettyyn, ennalta märiteltyyn tietotarp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kuinka tietyt päätökset / toimet vaikuttavat johonkin ilmi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vioinnin rajaus on aina tilannesidonn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aus perustuu synteesiin kaikista niistä ilmiöistä, jotka vaikuttavat arvioinnin koht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stuu kokoelmasta olennaisia muuttuj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hdistelmä tieteellistä tietoa ja arvopäätelm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sti rajat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 alkunsa tietyn tietotarpeen määrittely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äättyy viimeistään päätöksente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viointien kautta tieto ja ymmärrys siirtyvät osaksi päätöksentek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45:02Z</dcterms:created>
  <dc:creator>ctep</dc:creator>
  <dc:description/>
  <dc:language>en-US</dc:language>
  <cp:lastModifiedBy>ctep</cp:lastModifiedBy>
  <dcterms:modified xsi:type="dcterms:W3CDTF">2010-02-15T06:47:07Z</dcterms:modified>
  <cp:revision>131</cp:revision>
  <dc:subject>suomi</dc:subject>
  <dc:title>Tiedon kuvaaminen Opasnet-wikissä</dc:title>
</cp:coreProperties>
</file>